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E83-26ED-4865-ADCF-80C3BC08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A4C-71FE-4C3E-BFE2-FB50098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C17-2191-46F6-AF72-FB3276E4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A1A-4919-43DD-BAEA-8398151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4348-F5B5-470E-813C-EFF52653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E4C-E5B9-4509-A0DC-01C292A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50B-9F86-4D1C-B3A0-B9417002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5F8-02FF-4A5C-8273-DF058FDF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15C8-5A66-40A8-AC8B-19987A51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787B-D6B8-4CE0-89D6-900692F7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44A0-EE12-421C-B6A3-0AEABFD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B50-233B-4531-BF06-A7A48B8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4D88-24F1-4074-81B5-23061E0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DCDC-B6AB-4BFB-85A1-F4D1622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01C1-3B22-47A9-A420-6BBCCA31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65F3-32B5-47A9-AF55-821B0940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683-8853-4EFE-BCE3-F208FC1C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46B-7CAB-4877-8338-53642E30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B5E-15A0-4BEB-80DF-8BF7625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AE8-F768-4BFA-A6FB-2D17478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B19-076B-4E0B-8EA6-2498F1B1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15E-2D08-4CF0-860E-32E2177F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736-7D21-4FDB-9FF0-E1EE0D8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733-C082-4D6A-BD8B-EF463785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BEA-1142-43AD-8234-19E154FF6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1613-4717-41D1-9B18-68CCB566F0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eptember 2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Arial"/>
              </a:rPr>
              <a:t>True or False?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743200"/>
            <a:ext cx="1204920" cy="33984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432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819520"/>
            <a:ext cx="1332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432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74320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743200"/>
            <a:ext cx="777960" cy="33012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3048120"/>
            <a:ext cx="955800" cy="25848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200400"/>
            <a:ext cx="117180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276720"/>
            <a:ext cx="1349640" cy="61740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8128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038480"/>
            <a:ext cx="1581120" cy="30348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388620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962520"/>
            <a:ext cx="30456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8620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(problems 13-22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8T19:51:10Z</dcterms:modified>
  <cp:revision>40</cp:revision>
  <dc:subject/>
  <dc:title>Unit 1 – Variables and Equations </dc:title>
</cp:coreProperties>
</file>